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C00-53BA-4486-AEA6-49A01E5E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2A0-E281-4926-8B49-3C857835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06E-66E4-46CD-A300-C992CE60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33C-5898-419F-BEFF-AFA1C6B1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BDA-A8DC-4D8E-A19D-3E44B46B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BF8-F815-4CD6-A98C-3B04C7F7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88F-052C-4E72-8BE2-EFD86FE1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822-C6C3-47C2-A617-C939D19F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6AE-C044-44C4-B26E-5BF8B97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663-A595-4588-A2D1-CAA84069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D9C-2330-4083-A29E-D705637F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3E4-55C2-4345-ADDA-3A5AED7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C5A0-AA78-4776-B823-A2D8896D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copies hand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makes organisms more advan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descended from 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re more evolutionarily advanced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alleles are for beneficia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not b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s a theory (not a fact), therefore evolution is just spe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’t believe in God and in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does not explain how life orig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acts for the good of the species or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can be summarized by the phrase: “Survival of the fitte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ci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rganisms can adapt or evolve to better survive in new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(e.g. the tallest, the most red, etc.) trait of an organism allows it to surviv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does not always result in a species being perfectly adapted to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53:12Z</dcterms:created>
  <dc:creator>rubina khan</dc:creator>
  <dc:description/>
  <dc:language>en-US</dc:language>
  <cp:lastModifiedBy>rubina khan</cp:lastModifiedBy>
  <dcterms:modified xsi:type="dcterms:W3CDTF">2014-11-07T13:34:42Z</dcterms:modified>
  <cp:revision>31</cp:revision>
  <dc:subject/>
  <dc:title>Evolution Quiz</dc:title>
</cp:coreProperties>
</file>